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BAB-4C1B-40CD-A16F-0E532150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B09-BEE2-4E85-BB8E-30EDB32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6D7-97EC-417F-9F82-F9D11A61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136-F003-47A1-AF5C-FF1DC33C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A140-9C09-4657-8B3D-BC13884E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2127-1EC3-4A6F-A128-2EDB778D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31C-D2BD-42AF-866E-23CAC21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4FC3-4B7F-4EBC-B974-914C59D2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5397-7BAC-40A2-97CB-48F333CB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8A85-0010-4FCD-851D-19ED1F05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A009-1211-4EFF-8E37-C32CAD3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CA8-B4A6-48C3-8215-AD8001B4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FB6-D045-4D0A-93DC-C3D2CE3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78F6-461A-414F-A98B-45276A4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BA5-1033-4925-93E9-EE8411D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934E-2747-4F54-931F-F8E2091C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A9F1-AE4C-493A-BE7C-85EB3DD8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01B-3332-4EE9-9368-D10CD62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485-01D8-4AC8-8208-F0E41E4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C23-5D70-448E-AF13-3908BADA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407-8C20-4B12-B234-6C69D46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DE7-4BD4-4E7F-94E1-B6996AF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2D4-E654-4F39-871C-4AA78C96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49F-0704-4A86-9A3F-FAFD53F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50C8-E144-4DD1-856C-42A95AC0E93E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3CF3-53A3-4A41-8274-38A7EF96421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470F-B264-47C2-91A9-1A1C0490FECD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ffff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4969-06B4-43A2-8CE8-09D66D05295F}" type="slidenum">
              <a:rPr b="1" lang="tr-TR" sz="24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22jv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34000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İM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DF8-2B20-4077-8BDB-432F867ADCE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648733zr0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983880" y="26136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66ff"/>
                </a:solidFill>
                <a:latin typeface="Arial"/>
                <a:ea typeface="Times New Roman"/>
              </a:rPr>
              <a:t>Birinci Mertebe: İlim</a:t>
            </a:r>
            <a:r>
              <a:rPr b="0" lang="tr-T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268280"/>
            <a:ext cx="68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ın olmuş ve olac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mış şeyler eğer olacak ol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sıl olacaklarını, geneli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bütün incelikleriyle bildiğine iman etmektir.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14E-B99D-48AA-848D-89C120B89D6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57451686hl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826920" y="1268280"/>
            <a:ext cx="66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kulların neler yapacakların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 yaratmadan önce bildiği gib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n rızıklarının, ecellerinin, amellerin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areket ya da hareketsizlikleri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nceliklerini de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dan kimin mutl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imin bedbaht olduğunu da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bütün bunları ezelden b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ıfatı olan kadim ilmiyle 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457F-38EA-4343-B984-EAC129CE9A5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9872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1692360" y="907920"/>
            <a:ext cx="4572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</a:rPr>
              <a:t> اِنَّ اللّٰهَ بِكُلِّ شَیْءٍ عَليم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”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üphesiz Allah her</a:t>
            </a:r>
            <a:r>
              <a:rPr b="0" lang="tr-TR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çok iyi bilendir.”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ccff"/>
                </a:solidFill>
                <a:latin typeface="Calibri"/>
              </a:rPr>
              <a:t>(et-Tevbe, 9/1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93D4-BC2B-4623-BF63-B6FCB91369F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8435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2880" y="-144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ff"/>
                </a:solidFill>
                <a:latin typeface="Arial"/>
                <a:ea typeface="Times New Roman"/>
              </a:rPr>
              <a:t>İkinci Mertebe: Yaz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348000" y="189000"/>
            <a:ext cx="57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da yüce Allah’ın mahlukat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leri ile ilgili olarak ez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diğini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mış olduğuna iman etm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Levh-i mahfuz ise hiçbir şe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ılmaksızın tamam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ıldığı kitab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miş,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Ve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ıyamet gününe k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acak herşey yüce Allah’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nezdinde Ümmü’l-kitab’ta yaz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B7B2-AA07-49D8-8887-6EBF221D2AB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8761084cm1"/>
          <p:cNvPicPr/>
          <p:nvPr/>
        </p:nvPicPr>
        <p:blipFill>
          <a:blip r:embed="rId1"/>
          <a:stretch/>
        </p:blipFill>
        <p:spPr>
          <a:xfrm>
            <a:off x="0" y="0"/>
            <a:ext cx="8964720" cy="6811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79280" y="-27000"/>
            <a:ext cx="56167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una ez-Zikr, el-İm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l-Kitabu’l-mü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dları da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كُلَّ شَیْءٍ اَحْصَيْنَاهُ فى اِمَامٍ مُبين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Biz her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 şeyi İmam-ı mübin’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(önder kitabta) tesbit etmişiz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Yasin, 36/1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002B-E6C6-41C7-B53B-D5AE4FA400A6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59815215v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721440" y="2149560"/>
            <a:ext cx="703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Peygamber </a:t>
            </a:r>
            <a:r>
              <a:rPr b="0" i="1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’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şöyle buyurmuştu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ın ilk yarattığı şey kalemdir. O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Yaz diye buyur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, ne yazayım? diye sorun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kaderi ya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nı ve ebediyet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cak olanı yaz diye buyurd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AD2-CD9E-4EDF-A8D0-886EF5261B3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ntalyaresimlerial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30240" y="-144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Üçüncü Mertebe: İrade ve Meşîet (Dile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62064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ni bu kâinatta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şey rahmet ve hik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zellikleri ile Allah’ın i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eşîeti 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76720" y="417996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, dilediğini rahmetiyle hidayete ilet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dilediğini hikmeti ile saptır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kmet ve egemenliği eksiks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duğundan dolayı, yaptı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akkında Ona soru sorulma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ncak yaratılmışlara soru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9702-CC3D-471C-8251-B78320D4C96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ntalyaresimlerialp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179280" y="0"/>
            <a:ext cx="61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u kabilden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ir şey Allah’ın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yazılı ve ezelî ilmine uygun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llah’ın meşieti gerçekleş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udreti de 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şeyi kaps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’nun dilediği olur, dilemediği ol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çbir şey O’nun iradesi dışında değil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B92-987A-4D78-934F-8978A925F4D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ntalyaresimlerialp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208800" y="2131920"/>
            <a:ext cx="562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تَشَاؤُنَ اِلَّا اَنْ يَشَاءَ اللّٰهُ رَبُّ الْعَالَم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6AB5-ADB4-403A-8727-3B9135F2D04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antalyaresimlerialp1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317160" y="1049760"/>
            <a:ext cx="63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öyle buyurmuştu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ütün Ademoğullarının kalb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Rahman’ın parmaklarının ikisi arasın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dilediği gibi evirip çevirdiği tek bir kalb gibi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F77-58FB-471B-9A59-B6282AF51EF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4rn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900000" y="2708280"/>
            <a:ext cx="61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ve’l-cemaat her hay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şerrin Allah’ın kaza ve kaderi 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diğine, Allah’ın diled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 şeyi yaptığına kesin olarak inanır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’nun iradesi ile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içbir şey O’nun dilemesi(meşî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dbiri dışına çıka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olmuş ve olacak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dan önce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den beri 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44E-8F1C-4B67-9B28-31E90E312D6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antalyaresimlerialp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8280" y="-14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ördüncü Mertebe: Yarat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79280" y="170028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Yüce Allah’ın her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şeyin yaratıcı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olduğuna inanmak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her ne varsa yarat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amelde bulunan herk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onun amelini, hareket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varlığı ve hareketini yaratan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51DD-AF0A-4BE2-8773-C40AC88C96A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cascadeheadoregonw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79280" y="2429640"/>
            <a:ext cx="5905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خَلَقَ كُلَّ شَیْءٍ فَقَدَّرَهُ تَقْديرً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Herşeyi yaratıp onu inceden incey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takdir ve tayin etmişt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l-Furkan, 25/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0926-2EDC-4605-A861-EBFC1F3EBE6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arkaplan%20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84560" y="321480"/>
            <a:ext cx="705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Hayır ve şer türünden iman ve küfü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taat ve masiyet kabili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meydana gelen her bir şeyi Allah dilemişt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takdir etmiştir ve yaratmış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224640" y="3271320"/>
            <a:ext cx="6119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كَانَ لِنَفْسٍ اَنْ تُؤْمِنَ اِلَّا بِاِذْنِ اللّٰه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Allah’ın izni olmadan hiçbir kimse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iman etmesi mümkün değild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Yunus, 10/100);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57FD-D4DB-4264-B60D-043AAEBED28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hina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13680" y="9720"/>
            <a:ext cx="689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tek başına yaratıp var ed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, istisnasız herşeyin yaratıcısıdı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722840" y="3942000"/>
            <a:ext cx="4025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َللّٰهُ خَالِقُ كُلِّ شَیْء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هُوَ عَلٰى كُلِّ شَیْءٍ وَكيل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 herşeyin yaratıcı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O herşeye vekil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Calibri"/>
              </a:rPr>
              <a:t>(ez-Zümer, 39/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02E-7F1A-4692-A040-DDB006B7468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oga32y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3742920" y="756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itaati s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masiyetten hoşlan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lütfuyla hidayete ilet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de adaletiyle sap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979080" y="4559400"/>
            <a:ext cx="58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ْ تَكْفُرُوا فَاِنَّ اللّٰهَ غَنِىٌّ عَنْ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يَرْضٰى لِعِبَادِهِ الْكُفْر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اِنْ تَشْكُرُوا يَرْضَهُ لَ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تَزِرُ وَازِرَةٌ وِزْرَ اُخْرٰ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ثُمَّ اِلٰى رَبِّكُمْ مَرْجِعُكُمْ فَيُنَبِّئُكُمْ بِمَا كُنْتُمْ تَعْمَلُون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هُ عَليمٌ بِذَاتِ الصُّدُور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078E-2332-468C-A03A-F83A42D75C8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bur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3201840" y="0"/>
            <a:ext cx="59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inkâr ederseni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şüphesiz Allah, size muhtaç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Ama O, kullarının küfrüne razı o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şükrederseniz sizin için bunu kabul 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içbir günahkâr diğerinin günahını çek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Nihayet hepinizin dönüp gidişi, Rabbiniz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Yaptıklarınızı O, size haber v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Çünkü O, kalplerde olan herşey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akkıyla bilendir.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600" spc="-1" strike="noStrike">
                <a:solidFill>
                  <a:srgbClr val="ffff00"/>
                </a:solidFill>
                <a:latin typeface="Calibri"/>
              </a:rPr>
              <a:t>(ez-Zümer, 39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BB0-3CCB-4D24-B087-5B3EFA26259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Or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324000" y="0"/>
            <a:ext cx="57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saptırdığı kimsenin 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ürecek herhangi bir del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 da bir mazereti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yüce Allah ileri sürü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bahane kalmasın di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peygamberler göndermiş ve kul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şlediği ameli ona izafe eder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un kazancı olarak takdir etm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ancak gücünün yettiği şeyler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 yükümlü tutmuş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018A-01B1-479B-9F82-1195E08F36D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sea_29_ziza_15939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2124000" y="189000"/>
            <a:ext cx="4176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َلْيَوْمَ تُجْزٰى كُلُّ نَفْسٍ بِمَا كَسَبَت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لَا ظُلْمَ الْيَوْ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0" y="539604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de herk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kazandığının karşılığı ver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 asla zuülm yoktur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Calibri"/>
              </a:rPr>
              <a:t>(el-Mu’min, 40/17)</a:t>
            </a:r>
            <a:r>
              <a:rPr b="0" lang="tr-TR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81CB-E349-413D-9FAE-97C43381CFB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reefblogcu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-3240"/>
            <a:ext cx="68770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Fakat yüce Allah’ın rahmetinin </a:t>
            </a:r>
            <a:r>
              <a:rPr b="0" lang="tr-TR" sz="2400" spc="-1" strike="noStrike">
                <a:solidFill>
                  <a:srgbClr val="6600cc"/>
                </a:solidFill>
                <a:latin typeface="Arial"/>
                <a:ea typeface="Times New Roman"/>
              </a:rPr>
              <a:t>kemali dolayısıyla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O’na nisbet edilm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hayrı emretmiş olmakla birli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ri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ancak O’nun takdi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hikmeti ile meydana ge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صَابَكَ مِنْ حَسَنَةٍ فَمِنَ اللّٰه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مَا اَصَابَكَ مِنْ سَيِّئَةٍ فَمِنْ نَفْسِك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iyilik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fenalık da kendindendir</a:t>
            </a:r>
            <a:r>
              <a:rPr b="0" i="1" lang="tr-TR" sz="13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7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D60-8862-47AE-A271-91B92C5B2A9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Gu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79280" y="1409400"/>
            <a:ext cx="540072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</a:t>
            </a:r>
            <a:r>
              <a:rPr b="0" lang="tr-TR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zulümden münezzehtir,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 adalet sıfatına sahib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Kimseye zerre ağırlığı ka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ahi zulmet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bütün fiil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dalettir ve rahmet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 اللّٰهَ لَا يَظْلِمُ مِثْقَالَ ذَرَّة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Muhakkak Al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zerre ağırlığı kadar dahi zulmetmez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4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6B1E-111C-4CFA-84FB-87C14A581C2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9gm0j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1619280" y="3357720"/>
            <a:ext cx="60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i ilminin gereğine ve hikme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uygun olarak meydana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ütün kâinat için kade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iktarlar tayin et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ın hallerini, rızıkların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cellerini, ameller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daha başka diğer hallerini bilmiş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8E4-CBA4-47B7-8FCB-4D5A1B53D3E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nzg4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789120" y="186120"/>
            <a:ext cx="5513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yrıca yüce Allah’a yap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dilediklerinden dolayı soru soru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cc"/>
                </a:solidFill>
                <a:latin typeface="Calibri"/>
                <a:cs typeface="Times New Roman"/>
              </a:rPr>
              <a:t>لَا يُسْپَلُ عَمَّا يَفْعَلُ وَهُمْ يُسْپَلُو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O yaptığından sorumlu tutula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albuki onlar sorguya çekilecekt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biya, 21/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6276-DDD8-4AC2-B24D-8216F80C95C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reefblogcu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1332000" y="1844640"/>
            <a:ext cx="66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insanı ve fiillerini yar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a bir irade, bir kudre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tercih ve bir dileme gücü vermişt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 bunu mecazi anlamıyla değil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 anlamıyla fiillerini yapan kend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sun diye insana bağışla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406-73C0-413B-AE78-2C70024341C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reefblogcu8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2951280" y="37497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onra da ona hayır ile şerri birbir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yırdedecek bir akıl ver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irade ve tercihi ile yaptı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melleri dolayısı ile hesaba çekec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nsan mecbur değild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ksine onun kendi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rcihi v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4A2-7CE4-4EF2-A192-68FD500D3B3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reefblogcu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179280" y="4179960"/>
            <a:ext cx="69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la fiilerini ve inançlarını tercih 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u kadarı var ki iradesi itibar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iradesine tabi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dilediği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l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lemediği hiçbir şey ol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 fiillerini yaratan 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4685-A579-4419-8FDC-2BC8521C641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reefblogcu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79280" y="417996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fiilleri işleyen de kul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bu fiiler yaratılmalar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ar edilmeleri ve tak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dilmeleri itibari ile Allah’t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iil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kazanım olmaları itibariyl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a aittir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0468-DBFA-4327-8901-FB81E3E8619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reefblogcu16b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-388800" y="196200"/>
            <a:ext cx="6008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اِنْ هُوَ اِلَّا ذِكْرٌ لِ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لِمَنْ شَاءَ مِنْكُمْ اَنْ يَسْتَقٖي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وَمَا تَشَاؤُنَ اِلَّا اَنْ يَشَاءَ اللّٰهُ رَبُّ ا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818080" y="4922280"/>
            <a:ext cx="6328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ancak âlemlere bir öğüttü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ranızdan dosdoğru yolda gitmek isteyenl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</a:t>
            </a:r>
            <a:r>
              <a:rPr b="0" lang="tr-TR" sz="1600" spc="-1" strike="noStrike">
                <a:solidFill>
                  <a:srgbClr val="00ffff"/>
                </a:solidFill>
                <a:latin typeface="Arial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8-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2BAE-C36E-4A06-AF1B-8D3181D00A6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sea_20_ziza_81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0" y="48240"/>
            <a:ext cx="493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kaderi delil göster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َيَقُولُ الَّذينَ اَشْرَكُو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لَوْ شَاءَ اللّٰه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شْرَكْنَا وَلَا اٰبَاؤُ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حَرَّمْنَا مِنْ شَیْء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llah dileseydi biz 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babalarımız da ortak koşmazdı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Hiçbir şeyi de haram kılmazdık.”</a:t>
            </a:r>
            <a:r>
              <a:rPr b="0" lang="tr-T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En’am-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924360" y="4973400"/>
            <a:ext cx="49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iyen müşriklerin söyledikler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kabul etmeyer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evamında şu buyruklarıy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onların yalanlarını reddetmekted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B490-CC8C-4E0A-A905-77247206C83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reefblogcu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411280" y="3571920"/>
            <a:ext cx="633600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قُلْ هَلْ عِنْدَكُمْ مِنْ عِلْمٍ فَتُخْرِجُوهُ لَ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ِنْ تَتَّبِعُونَ اِلَّا الظَّنّ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اِنْ اَنْتُمْ اِلَّا تَخْرُص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:”De ki: Yanınızda bize çıkartı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gösterebileceğiniz, herhangi bir bilg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ancak zanna uyuyorsun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ve siz yalnızca yalan uyduruyorsunuz.”</a:t>
            </a:r>
            <a:r>
              <a:rPr b="0" i="1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’âm, 6/1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44E-B49B-4923-97C9-0DF0065DF9B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reefblogcu7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3349440" y="4017240"/>
            <a:ext cx="577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ade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llah’ın yarattıklarınd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r sırrı olduğuna inan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na ne mukarrab bir mel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e mürsel bir peygamber muttali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u hususta çokça derine dalm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uzun boylu düşünmek sapıklık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976-A0A9-4961-BA7A-A8ED283754A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reefblogcu3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31320" y="19548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yüce Allah kader bilgisini yarat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aklı tutmuş ve onun nihai maksadın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lmeye kalkışmalarını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3210120" y="4947840"/>
            <a:ext cx="510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Arial"/>
              </a:rPr>
              <a:t>لَا يُسْپَلُ عَمَّا يَفْعَلُ وَهُمْ يُسْپَل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işlediklerinden sorumlu tutu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albuki onlara sorulur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(el-Enbiya,</a:t>
            </a:r>
            <a:r>
              <a:rPr b="0" i="1" lang="tr-TR" sz="1300" spc="-1" strike="noStrike" u="sng">
                <a:solidFill>
                  <a:srgbClr val="ffcc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21/23)</a:t>
            </a:r>
            <a:r>
              <a:rPr b="0" lang="tr-TR" sz="13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4CD-796B-4856-AE3E-8433F3D0D55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gi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0" y="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e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yeni ş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ilim, kudret ve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özet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030560" y="504180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bede kadar meydana ge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a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e dair Allah’ın ezel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gisi ile Kalemin bu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dığına inanmaktır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C3D7-8148-4F6E-BEDD-20673DA55FB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manzara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30600" y="195480"/>
            <a:ext cx="507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endile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muhalefet eden sapık fırk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’ın şu buyruğu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tab eder ve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delil gösterirl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3689280" y="4160520"/>
            <a:ext cx="53974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قُلْ كُلٌّ مِنْ عِنْدِ اللّٰه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فَمَالِ هٰؤُلَاءِ الْقَوْم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لَا يَكَادُونَ يَفْقَهُونَ حَدٖيثًا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De ki: Hepsi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Böyle iken bunlara ne oluyor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içbir sözü anlamaya yanaşmıyorlar?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n-Nisa, 4/7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E636-94EC-4C07-8AEA-11B73A2CED6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ilkbahar-manzarasi-resmi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693720" y="196560"/>
            <a:ext cx="756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İşte ashab, tabiîn ve kıyamet günün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onlara güzel bir şekilde uy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selef-i salih’in iman ettikleri hususlar bun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hepsinden razı ol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1701-33F7-4736-8769-F83E089276E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57120" y="4441320"/>
            <a:ext cx="82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6600" spc="-1" strike="noStrike">
                <a:solidFill>
                  <a:srgbClr val="00ffff"/>
                </a:solidFill>
                <a:latin typeface="Arial"/>
              </a:rPr>
              <a:t>والحمد لله رب العال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95280" y="3244320"/>
            <a:ext cx="64803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ُنَّةَ اللّٰهِ فِى الَّذينَ خَلَوْا مِنْ قَبْلُ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كَانَ اَمْرُ اللّٰهِ قَدَرًا مَقْدُورًا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Önce gelip geçenler arasınd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sünneti böyley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emri mutlaka yerini bulan bir kaderdir.”</a:t>
            </a:r>
            <a:r>
              <a:rPr b="0" i="1" lang="tr-TR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el-Ahzab, 33/38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353-91EA-4AA6-AD6B-9390F5681D7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24y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624960" y="468360"/>
            <a:ext cx="41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اِنَّا كُلَّ شَیْءٍ خَلَقْنَاهُ بِقَدَرٍ</a:t>
            </a: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Çünkü biz her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şeyi bir takdir,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ölçü ve deng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yarattık.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Kamer, 54/4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771-C816-4742-B149-323AE75B2C3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antalyaresimlerialp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34920" y="216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şöyle buyurmuştur:</a:t>
            </a:r>
            <a:r>
              <a:rPr b="0" lang="tr-TR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3348360" y="3476160"/>
            <a:ext cx="564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ir kimse kadere hayrı ile şerri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tan geldiğine iman etmedikç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gelip isabet ede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lip çatmamasının imkânsız olduğu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ve kendisini gelip bulmaya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isabet etmesini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mkânsız olduğunu kesinlikle bil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hiçbir kul iman etmiş olmaz.”</a:t>
            </a:r>
            <a:r>
              <a:rPr b="0" lang="tr-TR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85ED-9575-4CCC-91DE-43789503DF0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6336686fh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0" y="0"/>
            <a:ext cx="61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derler ki: Kadere i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dört husus ile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a da kaderin mertebe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 esasları adı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hususla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 meseles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lamanın yolu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0" y="422100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ise, bütün esas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leştirilmedikçe tamam ol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bunların bir kısmı diğerine bağ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E9C6-9D71-4CB7-A2ED-8CE390C389C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5038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79280" y="18900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ın hepsini kabul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kimsenin kadere imanı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dan birisini yahut daha fazlasın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anın ise kadere iman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rsıntı meydana gelir</a:t>
            </a:r>
            <a:r>
              <a:rPr b="0" lang="tr-TR" sz="2800" spc="-1" strike="noStrike" u="sng">
                <a:solidFill>
                  <a:srgbClr val="ffff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574F-0388-4131-92DE-B686ADEDF1A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3:24:09Z</dcterms:created>
  <dc:creator>mnm</dc:creator>
  <dc:description/>
  <dc:language>en-US</dc:language>
  <cp:lastModifiedBy>mnm</cp:lastModifiedBy>
  <dcterms:modified xsi:type="dcterms:W3CDTF">2011-03-30T15:09:13Z</dcterms:modified>
  <cp:revision>129</cp:revision>
  <dc:subject/>
  <dc:title>Slide 1</dc:title>
</cp:coreProperties>
</file>