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76C-F9B7-4457-8248-3A0ECCFB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83E-9326-417F-8E50-4ED24E9B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CD1-36F6-460A-9492-C22B00F9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17B-2638-4A47-958C-C5FF78CA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4910-DB07-4856-8DD5-C756FCD8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083-2944-46AE-BF4D-0849139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429D-DC2F-4864-80ED-4205731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B1FC-016B-43FA-A2EE-561D22A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3EC-854D-42AA-9875-55E8986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7971-7157-42A2-8FE3-3050E1FA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0F3-316E-42C4-9083-B973D3E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C42-F8D5-46E2-970E-FEFFE4E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40EB-5370-444B-BBCE-881A462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6601-9A6E-4D17-B2CC-8CAF99B0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E06A-3908-4BD9-A175-632222B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C6C-6B0F-4EE9-883E-F0EFC003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FA5B-A2BC-4383-B999-FDC1496C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9D5-4369-41F7-966B-F86E67F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EC0-AE45-42A8-83C8-211AD86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423-5ADF-4882-B0D7-F7E982B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C44-DACF-4B29-B69F-131AE43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640-DC4B-45C5-B81B-32A42D1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AD2-5FA1-4CC3-AB39-5263D0D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A68-1A8E-4836-B714-B70A1B0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CC8-C997-4AC5-900B-891D365DBD0A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3A3-30B2-48AB-9B34-51BECB21F51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AA3F-E9EC-4764-A7B3-E83969494B8B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ffff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9D6-B907-4009-BDB9-A246B2CD79CE}" type="slidenum">
              <a:rPr b="1" lang="tr-TR" sz="24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22jv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34000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İM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FF47-79FC-464B-B167-1D077B873C2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648733zr0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983880" y="261360"/>
            <a:ext cx="34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66ff"/>
                </a:solidFill>
                <a:latin typeface="Arial"/>
                <a:ea typeface="Times New Roman"/>
              </a:rPr>
              <a:t>Birinci Mertebe: İlim</a:t>
            </a:r>
            <a:r>
              <a:rPr b="0" lang="tr-TR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95280" y="126828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ın olmuş ve olaca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mış şeyler eğer olacak ol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sıl olacaklarını, geneli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bütün incelikleriyle bildiğine iman etmektir.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D0B-1D60-475A-9AC1-1E7F532095A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57451686h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826920" y="1268280"/>
            <a:ext cx="66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kulların neler yapacakların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 yaratmadan önce bildiği gib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ın rızıklarının, ecellerinin, amellerin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reket ya da hareketsizlikleri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nceliklerini de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lardan kimin mutl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imin bedbaht olduğunu da bil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bütün bunları ezelden be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ıfatı olan kadim ilmiyle 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755-9EE4-4E24-BE0A-960F868A2BC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98723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1692360" y="907920"/>
            <a:ext cx="4572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</a:rPr>
              <a:t> اِنَّ اللّٰهَ بِكُلِّ شَیْءٍ عَليم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”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üphesiz Allah her</a:t>
            </a:r>
            <a:r>
              <a:rPr b="0" lang="tr-TR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cc"/>
                </a:solidFill>
                <a:latin typeface="Calibri"/>
              </a:rPr>
              <a:t>çok iyi bilendir.”</a:t>
            </a:r>
            <a:r>
              <a:rPr b="0" lang="tr-TR" sz="28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ccff"/>
                </a:solidFill>
                <a:latin typeface="Calibri"/>
              </a:rPr>
              <a:t>(et-Tevbe, 9/1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F87-3931-4195-A2C2-C8A2854C1FF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84355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2880" y="-144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ff"/>
                </a:solidFill>
                <a:latin typeface="Arial"/>
                <a:ea typeface="Times New Roman"/>
              </a:rPr>
              <a:t>İkinci Mertebe: Yaz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348000" y="189000"/>
            <a:ext cx="57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da yüce Allah’ın mahlukat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leri ile ilgili olarak ez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diğini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mış olduğuna iman etm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vh-i mahfuz ise hiçbir şey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ılmaksızın tamam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ıldığı kitab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miş,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ıyamet gününe k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acak herşey yüce Allah’ı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nezdinde Ümmü’l-kitab’ta yaz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309-6D6D-497C-95B1-B2C664696FA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8761084cm1"/>
          <p:cNvPicPr/>
          <p:nvPr/>
        </p:nvPicPr>
        <p:blipFill>
          <a:blip r:embed="rId1"/>
          <a:stretch/>
        </p:blipFill>
        <p:spPr>
          <a:xfrm>
            <a:off x="0" y="0"/>
            <a:ext cx="8964720" cy="6811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79280" y="-27000"/>
            <a:ext cx="56167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una ez-Zikr, el-İm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-Kitabu’l-müb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dları da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كُلَّ شَیْءٍ اَحْصَيْنَاهُ فى اِمَامٍ مُبين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Biz her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 şeyi İmam-ı mübin’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(önder kitabta) tesbit etmişiz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Yasin, 36/1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BF8-F572-4A1C-B355-33F40D9377C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59815215v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721440" y="2149560"/>
            <a:ext cx="703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Peygamber </a:t>
            </a:r>
            <a:r>
              <a:rPr b="0" i="1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’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şöyle buyurmuştu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ın ilk yarattığı şey kalemdir. O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Yaz diye buyur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, ne yazayım? diye sorun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kaderi ya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nı ve ebediyet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olacak olanı yaz diye buyurd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F2A4-3EE2-4271-8909-6589F41A957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ntalyaresimlerial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30240" y="-144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Üçüncü Mertebe: İrade ve Meşîet (Dile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62064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bu kâinatta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rahmet ve hik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zellikleri ile Allah’ın i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eşîeti 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76720" y="417996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, dilediğini rahmetiyle hidayete ilet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dilediğini hikmeti ile saptır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kmet ve egemenliği eksiks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lduğundan dolayı, yaptık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akkında Ona soru sorulm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ncak yaratılmışlara soru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A6A7-B592-40CC-BF98-EEF4D73529B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ntalyaresimlerialp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79280" y="0"/>
            <a:ext cx="61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kabilden meydana 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ir şey Allah’ın Levh-i mahfuz’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yazılı ve ezelî ilmine uygun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Allah’ın meşieti gerçekleş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udreti de her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şeyi kaps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O’nun dilediği olur, dilemediği ol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Hiçbir şey O’nun iradesi dışında değil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28E-78A2-444D-A0FA-FCC424D5335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ntalyaresimlerialp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208800" y="2131920"/>
            <a:ext cx="562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تَشَاؤُنَ اِلَّا اَنْ يَشَاءَ اللّٰهُ رَبُّ الْعَالَمي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A09-8BBD-41A9-99C6-5DB2E7E186E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antalyaresimlerialp1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317160" y="1049760"/>
            <a:ext cx="63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öyle buyurmuştu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ütün Ademoğullarının kalb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Rahman’ın parmaklarının ikisi arası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dilediği gibi evirip çevirdiği tek bir kalb gibi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2571-AF5C-49C6-AD66-75F698347DF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4rn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900000" y="2708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ve’l-cemaat her hay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şerrin Allah’ın kaza ve kaderi 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diğine, Allah’ın diledi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 şeyi yaptığına kesin olarak inanı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’nun iradesi ile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içbir şey O’nun dilemesi(meşîe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dbiri dışına çıka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olmuş ve olacak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madan önce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den beri 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60C-147D-4CFC-9932-BFB70E9AA30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antalyaresimlerialp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8280" y="-14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ördüncü Mertebe: Yaratm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79280" y="170028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Yüce Allah’ın her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şeyin yaratıcı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Calibri"/>
              </a:rPr>
              <a:t>olduğuna inanmak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dışında her ne varsa yaratıl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, amelde bulunan herk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nun amelini, hareket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varlığı ve hareketini yaratan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F86D-F63E-4C13-A047-32A135026401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cascadeheadoregonw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79280" y="2429640"/>
            <a:ext cx="5905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خَلَقَ كُلَّ شَیْءٍ فَقَدَّرَهُ تَقْديرً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Herşeyi yaratıp onu inceden inc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</a:rPr>
              <a:t>takdir ve tayin etmişt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l-Furkan, 25/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904-A4DA-4F51-8D26-3341F9BF8EE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arkaplan%2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484560" y="321480"/>
            <a:ext cx="705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Hayır ve şer türünden iman ve küfü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taat ve masiyet kabili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meydana gelen her bir şeyi Allah dilemişt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takdir etmiştir ve yaratmış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224640" y="3271320"/>
            <a:ext cx="6119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مَا كَانَ لِنَفْسٍ اَنْ تُؤْمِنَ اِلَّا بِاِذْنِ اللّٰه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Allah’ın izni olmadan hiçbir kimse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Arial"/>
                <a:ea typeface="Times New Roman"/>
              </a:rPr>
              <a:t>iman etmesi mümkün değildi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Yunus, 10/100);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383-9C46-4E16-B9C5-A8EBFED09B6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china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13680" y="9720"/>
            <a:ext cx="689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tek başına yaratıp var eden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, istisnasız herşeyin yaratıcısıdı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dan başka bir yaratıc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dışında bir Rab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722840" y="3942000"/>
            <a:ext cx="40258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َللّٰهُ خَالِقُ كُلِّ شَیْء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هُوَ عَلٰى كُلِّ شَیْءٍ وَكيل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 herşeyin yaratıcısı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O herşeye vekild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Calibri"/>
              </a:rPr>
              <a:t>(ez-Zümer, 39/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92E6-579A-4CFE-A45C-13758406785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oga32y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3742920" y="756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itaati s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masiyetten hoşlan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lütfuyla hidayete ilet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lediği kimseyi de adaletiyle sapt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itekim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979080" y="4559400"/>
            <a:ext cx="580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ْ تَكْفُرُوا فَاِنَّ اللّٰهَ غَنِىٌّ عَنْ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يَرْضٰى لِعِبَادِهِ الْكُفْر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اِنْ تَشْكُرُوا يَرْضَهُ لَ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تَزِرُ وَازِرَةٌ وِزْرَ اُخْرٰ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ثُمَّ اِلٰى رَبِّكُمْ مَرْجِعُكُمْ فَيُنَبِّئُكُمْ بِمَا كُنْتُمْ تَعْمَلُون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هُ عَليمٌ بِذَاتِ الصُّدُور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1BA-DB09-45B8-905A-62C1CDAFE7C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bur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3201840" y="0"/>
            <a:ext cx="59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inkâr ederseni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şüphesiz Allah, size muhtaç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Ama O, kullarının küfrüne razı o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Eğer şükrederseniz sizin için bunu kabul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içbir günahkâr diğerinin günahını çek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Nihayet hepinizin dönüp gidişi, Rabbinize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Yaptıklarınızı O, size hab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Çünkü O, kalplerde olan herşey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600" spc="-1" strike="noStrike">
                <a:solidFill>
                  <a:srgbClr val="ffff00"/>
                </a:solidFill>
                <a:latin typeface="Calibri"/>
              </a:rPr>
              <a:t>(ez-Zümer, 39/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9D4-DA54-47DB-8778-315E4832F31A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Or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324000" y="0"/>
            <a:ext cx="57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saptırdığı kimsenin i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ürecek herhangi bir del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 da bir mazereti yok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yüce Allah ileri sürü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bahane kalmasın di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peygamberler göndermiş ve kul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şlediği ameli ona izafe eder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un kazancı olarak takdir etm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ancak gücünün yettiği şeyler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 yükümlü tutmuşt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B65-2CB5-4D48-8CAC-4880E2A8AB83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sea_29_ziza_15939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124000" y="189000"/>
            <a:ext cx="4176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alibri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َلْيَوْمَ تُجْزٰى كُلُّ نَفْسٍ بِمَا كَسَبَت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لَا ظُلْمَ الْيَوْ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0" y="5396040"/>
            <a:ext cx="38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de herk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kazandığının karşılığı v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Bugün asla zuülm yoktur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Calibri"/>
              </a:rPr>
              <a:t>(el-Mu’min, 40/17)</a:t>
            </a:r>
            <a:r>
              <a:rPr b="0" lang="tr-TR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7D9F-F588-499B-82A1-9DBA1CE353C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eefblogcu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-3240"/>
            <a:ext cx="68770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Fakat yüce Allah’ın rahmetinin </a:t>
            </a:r>
            <a:r>
              <a:rPr b="0" lang="tr-TR" sz="2400" spc="-1" strike="noStrike">
                <a:solidFill>
                  <a:srgbClr val="6600cc"/>
                </a:solidFill>
                <a:latin typeface="Arial"/>
                <a:ea typeface="Times New Roman"/>
              </a:rPr>
              <a:t>kemali dolayısıyla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O’na nisbet edilm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hayrı emretmiş olmakla bir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ri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Şer ancak O’nun takdi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hikmeti ile meydana ge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صَابَكَ مِنْ حَسَنَةٍ فَمِنَ اللّٰه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مَا اَصَابَكَ مِنْ سَيِّئَةٍ فَمِنْ نَفْسِك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iyilik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Sana gelen her fenalık da kendindendir</a:t>
            </a:r>
            <a:r>
              <a:rPr b="0" i="1" lang="tr-TR" sz="13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7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9E9-25A9-4DCA-A018-106845CDD95C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Gu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79280" y="1409400"/>
            <a:ext cx="540072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</a:t>
            </a:r>
            <a:r>
              <a:rPr b="0" lang="tr-TR" sz="2400" spc="-1" strike="noStrike">
                <a:solidFill>
                  <a:srgbClr val="800080"/>
                </a:solidFill>
                <a:latin typeface="Arial"/>
                <a:ea typeface="Times New Roman"/>
              </a:rPr>
              <a:t>zulümden münezzehtir,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 adalet sıfatına sahib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Kimseye zerre ağırlığı ka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ahi zulmet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’nun bütün fiill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dalettir ve rahmet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اِنَّ اللّٰهَ لَا يَظْلِمُ مِثْقَالَ ذَرَّة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Muhakkak All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zerre ağırlığı kadar dahi zulmetmez</a:t>
            </a:r>
            <a:r>
              <a:rPr b="0" i="1" lang="tr-TR" sz="24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(en-Nisa, 4/4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5926-864B-4EE0-9BE2-E3F8DB3317A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9gm0j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1619280" y="335772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zeli ilminin gereğine ve hikme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ygun olarak meydana gelec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ütün kâinat için kader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iktarlar tayin et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ın hallerini, rızıkların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cellerini, ameller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başka diğer hallerini bilmiş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638-B513-4D25-9939-2B9C6BF544C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nzg4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789120" y="186120"/>
            <a:ext cx="5513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yrıca yüce Allah’a yap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dilediklerinden dolayı soru soru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O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cc"/>
                </a:solidFill>
                <a:latin typeface="Calibri"/>
                <a:cs typeface="Times New Roman"/>
              </a:rPr>
              <a:t>لَا يُسْپَلُ عَمَّا يَفْعَلُ وَهُمْ يُسْپَلُو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O yaptığından sorumlu tutula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Halbuki onlar sorguya çekilecekt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biya, 21/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6DB-F2C4-4AE8-88F2-2D3CE707786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reefblogcu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1332000" y="1844640"/>
            <a:ext cx="66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insanı ve fiillerini yar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a bir irade, bir kudre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tercih ve bir dileme gücü vermişt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üce Allah bunu mecazi anlamıyla değil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 anlamıyla fiillerini yapan kend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sun diye insana bağışlamış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602-8B7D-438C-B14A-827FE3D8BC4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reefblogcu8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"/>
          <p:cNvSpPr/>
          <p:nvPr/>
        </p:nvSpPr>
        <p:spPr>
          <a:xfrm>
            <a:off x="2951280" y="37497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onra da ona hayır ile şerri birbir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yırdedecek bir akıl vermiş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irade ve tercihi ile yaptı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melleri dolayısı ile hesaba çekecek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 mecbur değild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sine onun kendi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tercihi v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CE2-50EE-49FD-8BD6-D4ABCA045066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reefblogcu5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179280" y="4179960"/>
            <a:ext cx="69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la fiilerini ve inançlarını tercih 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u kadarı var ki iradesi itibari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radesine tabid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lediği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 ol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emediği hiçbir şey olm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ların fiillerini yaratan yüce Allah’t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F25-51BC-426E-8925-93E1C141001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reefblogcu1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79280" y="417996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fiilleri işleyen de kul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 halde bu fiiler yaratılmalar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ar edilmeleri ve tak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dilmeleri itibari ile Allah’t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iil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kazanım olmaları itibariyl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ula aitti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9D29-F2B9-4653-80AC-A8D85856EB6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eefblogcu16b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-388800" y="196200"/>
            <a:ext cx="6008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اِنْ هُوَ اِلَّا ذِكْرٌ لِ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لِمَنْ شَاءَ مِنْكُمْ اَنْ يَسْتَقٖي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ff"/>
                </a:solidFill>
                <a:latin typeface="Arial"/>
              </a:rPr>
              <a:t>وَمَا تَشَاؤُنَ اِلَّا اَنْ يَشَاءَ اللّٰهُ رَبُّ الْعَالَمٖ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818080" y="4922280"/>
            <a:ext cx="6328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ancak âlemlere bir öğüttü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ranızdan dosdoğru yolda gitmek isteyenl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Âlemlerin Rabbi olan Allah dile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dileyemezsiniz</a:t>
            </a:r>
            <a:r>
              <a:rPr b="0" lang="tr-TR" sz="1600" spc="-1" strike="noStrike">
                <a:solidFill>
                  <a:srgbClr val="00ffff"/>
                </a:solidFill>
                <a:latin typeface="Arial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t-Tekvîr, 81/28-2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BDC0-5C7B-4BFD-83C8-07060090222D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sea_20_ziza_81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48240"/>
            <a:ext cx="493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kaderi delil gösterer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َيَقُولُ الَّذينَ اَشْرَكُو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لَوْ شَاءَ اللّٰه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مَا اَشْرَكْنَا وَلَا اٰبَاؤُ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وَلَا حَرَّمْنَا مِنْ شَیْء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Allah dileseydi biz 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babalarımız da ortak koşmazdı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Hiçbir şeyi de haram kılmazdık.”</a:t>
            </a:r>
            <a:r>
              <a:rPr b="0" lang="tr-T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00"/>
                </a:solidFill>
                <a:latin typeface="Arial"/>
              </a:rPr>
              <a:t>En’am-1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3924360" y="4973400"/>
            <a:ext cx="49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iyen müşriklerin söyledikler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kabul etmeyer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devamında şu buyrukları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onların yalanlarını reddetmekted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431-E2D2-4A73-9A9A-C30F627F4AA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reefblogcu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411280" y="3571920"/>
            <a:ext cx="633600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قُلْ هَلْ عِنْدَكُمْ مِنْ عِلْمٍ فَتُخْرِجُوهُ لَ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اِنْ تَتَّبِعُونَ اِلَّا الظَّنّ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اِنْ اَنْتُمْ اِلَّا تَخْرُص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:”De ki: Yanınızda bize çıkartı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gösterebileceğiniz, herhangi bir bilgi var m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Siz ancak zanna uyuyorsun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ve siz yalnızca yalan uyduruyorsunuz.”</a:t>
            </a:r>
            <a:r>
              <a:rPr b="0" i="1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En’âm, 6/1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65F-C687-41F9-8C28-ED2D9AAEABAE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reefblogcu7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3349440" y="4017240"/>
            <a:ext cx="577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ad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lah’ın yarattıklarınd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r sırrı olduğuna inan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na ne mukarrab bir mel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e mürsel bir peygamber muttali değild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u hususta çokça derine dalm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e uzun boylu düşünmek sapıklıkt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F605-B676-4D4D-9783-3B66AF9085F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reefblogcu3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31320" y="195480"/>
            <a:ext cx="674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Çünkü yüce Allah kader bilgisini yarattıkların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aklı tutmuş ve onun nihai maksadın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lmeye kalkışmalarını yasaklamış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3210120" y="4947840"/>
            <a:ext cx="5109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Arial"/>
              </a:rPr>
              <a:t>لَا يُسْپَلُ عَمَّا يَفْعَلُ وَهُمْ يُسْپَلُو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O işlediklerinden sorumlu tutulm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albuki onlara sorulur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(el-Enbiya,</a:t>
            </a:r>
            <a:r>
              <a:rPr b="0" i="1" lang="tr-TR" sz="1300" spc="-1" strike="noStrike" u="sng">
                <a:solidFill>
                  <a:srgbClr val="ffcc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ccff"/>
                </a:solidFill>
                <a:latin typeface="Arial"/>
                <a:ea typeface="Times New Roman"/>
              </a:rPr>
              <a:t>21/23)</a:t>
            </a:r>
            <a:r>
              <a:rPr b="0" lang="tr-TR" sz="13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iye buyurmakta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7674-29E0-4F1E-A2BF-A3E60EF8069B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gi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eydana gele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yeni ş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’nun ilim, kudret ve irad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e meydana ge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özet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030560" y="504180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bede kadar meydana ge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n he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e dair Allah’ın ezel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gisi ile Kalemin bu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zdığına inanmaktır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F4D-AF13-4A32-B4E1-0373C7ADAFAF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manzara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"/>
          <p:cNvSpPr/>
          <p:nvPr/>
        </p:nvSpPr>
        <p:spPr>
          <a:xfrm>
            <a:off x="30600" y="19548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hl-i sünnet ve’l-cemaat kendil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uhalefet eden sapık fırk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’ın şu buyruğu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tab eder v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elil gösterirl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3689280" y="4160520"/>
            <a:ext cx="5397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قُلْ كُلٌّ مِنْ عِنْدِ اللّٰه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فَمَالِ هٰؤُلَاءِ الْقَوْم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Arial"/>
              </a:rPr>
              <a:t>لَا يَكَادُونَ يَفْقَهُونَ حَدٖيثًا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De ki: Hepsi Allah’tand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Böyle iken bunlara ne oluyor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hiçbir sözü anlamaya yanaşmıyorlar?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n-Nisa, 4/7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823-4B2C-4C37-84D6-53D739A55085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ilkbahar-manzarasi-resmi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693720" y="196560"/>
            <a:ext cx="756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İşte ashab, tabiîn ve kıyamet gününe ka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onlara güzel bir şekilde uy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selef-i salih’in iman ettikleri hususlar bun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Yüce Allah hepsinden razı ol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3CCC-BC87-4DE1-A2E6-11B1E0B1246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57120" y="4441320"/>
            <a:ext cx="82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600" spc="-1" strike="noStrike">
                <a:solidFill>
                  <a:srgbClr val="00ffff"/>
                </a:solidFill>
                <a:latin typeface="Arial"/>
              </a:rPr>
              <a:t>والحمد لله رب العال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395280" y="3244320"/>
            <a:ext cx="648036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üce Allah şöyle buyurmaktadı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Times New Roman"/>
              </a:rPr>
              <a:t>سُنَّةَ اللّٰهِ فِى الَّذينَ خَلَوْا مِنْ قَبْلُ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وَكَانَ اَمْرُ اللّٰهِ قَدَرًا مَقْدُورًا</a:t>
            </a:r>
            <a:r>
              <a:rPr b="0" lang="ar-SY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Önce gelip geçenler arasında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sünneti böyley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Allah’ın emri mutlaka yerini bulan bir kaderdir.”</a:t>
            </a:r>
            <a:r>
              <a:rPr b="0" i="1" lang="tr-TR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3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</a:rPr>
              <a:t>el-Ahzab, 33/38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FFA-F30B-45B4-AD78-9D27FE647488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24y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624960" y="468360"/>
            <a:ext cx="419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اِنَّا كُلَّ شَیْءٍ خَلَقْنَاهُ بِقَدَرٍ</a:t>
            </a:r>
            <a:r>
              <a:rPr b="0" lang="ar-SY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”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Çünkü biz her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şeyi bir takdir,</a:t>
            </a: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Calibri"/>
              </a:rPr>
              <a:t>ölçü ve deng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ff"/>
                </a:solidFill>
                <a:latin typeface="Arial"/>
                <a:ea typeface="Times New Roman"/>
              </a:rPr>
              <a:t>yarattık.”</a:t>
            </a:r>
            <a:r>
              <a:rPr b="0" lang="tr-TR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tr-TR" sz="1300" spc="-1" strike="noStrike">
                <a:solidFill>
                  <a:srgbClr val="ffff00"/>
                </a:solidFill>
                <a:latin typeface="Arial"/>
                <a:ea typeface="Times New Roman"/>
              </a:rPr>
              <a:t>(el-Kamer, 54/4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3F1A-8C64-4CD7-9B4C-4797D1090FA9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antalyaresimlerialp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34920" y="2160"/>
            <a:ext cx="56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Peygamber </a:t>
            </a:r>
            <a:r>
              <a:rPr b="0" i="1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-sallallahu aleyhi ve sellem-</a:t>
            </a: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şöyle buyurmuştur:</a:t>
            </a:r>
            <a:r>
              <a:rPr b="0" lang="tr-TR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3348360" y="3476160"/>
            <a:ext cx="564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“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Bir kimse kadere hayrı ile şerri 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Allah’tan geldiğine iman etmedikç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gelip isabet ede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lip çatmamasının imkânsız olduğu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ve kendisini gelip bulmayan bir şey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kendisine isabet etmesini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mkânsız olduğunu kesinlikle bilmedikç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hiçbir kul iman etmiş olmaz.”</a:t>
            </a:r>
            <a:r>
              <a:rPr b="0" lang="tr-TR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C59-AD1F-419B-9FB4-B07E8E107357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36336686fh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0"/>
            <a:ext cx="61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hl-i sünnet derler ki: Kadere i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cak dört husus ile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a da kaderin mertebel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 esasları adı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hususlar</a:t>
            </a:r>
            <a:r>
              <a:rPr b="0" lang="tr-T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 meseles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anın yolud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0" y="4221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adere iman ise, bütün esas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rçekleştirilmedikçe tamam olam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bunların bir kısmı diğerine bağ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0FC-6821-4FDE-8888-47E0A3D7F662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5038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79280" y="189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ın hepsini kabul e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kimsenin kadere imanı tamam ol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lardan birisini yahut daha fazlasın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ksik bırakanın ise kadere iman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rsıntı meydana gelir</a:t>
            </a:r>
            <a:r>
              <a:rPr b="0" lang="tr-TR" sz="2800" spc="-1" strike="noStrike" u="sng">
                <a:solidFill>
                  <a:srgbClr val="ffff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D80-5D4A-48A8-84AC-5ED1F58A9E40}" type="slidenum">
              <a:rPr b="1" lang="tr-TR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3:24:09Z</dcterms:created>
  <dc:creator>mnm</dc:creator>
  <dc:description/>
  <dc:language>en-US</dc:language>
  <cp:lastModifiedBy>mnm</cp:lastModifiedBy>
  <dcterms:modified xsi:type="dcterms:W3CDTF">2011-03-30T15:09:13Z</dcterms:modified>
  <cp:revision>129</cp:revision>
  <dc:subject/>
  <dc:title>Slide 1</dc:title>
</cp:coreProperties>
</file>