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5C5-92CA-47A0-B307-42CA0C6C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8D1-F099-4EDC-85DE-12C9449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20F-05F0-4906-8883-3C07BA38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0A1-284E-4298-86A4-4BEB2E29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BDC7-3062-4617-8830-2CEB0D1E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E00A-00D4-4AE3-80EA-004B112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DE6-46E4-4E3C-8C04-72AC6BD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169A-1718-43D9-89F4-991942A7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7D1B-75B4-439B-8679-6EC89F5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509-2CEA-48B2-8139-FE615EF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4F73-6EAC-437D-A0C2-06B5981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861-5AD4-4EE4-B177-B708B96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185-8F25-4AEF-B26F-92FB2B3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32E6-D734-47A0-A703-3E78453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443-A5E6-4086-8AE2-6FB6A19B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F9B-3CDC-4D63-8D08-0B00ED89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9D2F-5726-43A1-A6A5-1CBD6351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9D5-A407-400E-8D6E-70FDB5A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660-C34D-42F3-ADD3-757E233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DB6-4DB7-4773-9702-7FCA3F9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4F8-C687-4BE2-81DF-32A30B13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B87-BA62-496F-AC65-A3A16F3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9B7-C01E-4506-9499-CA23B92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78A-2D2D-443F-AE68-91B5E46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D01-400D-45B5-B341-69594F913B16}" type="datetime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557-CF3A-4313-B241-842D38CAC2C7}" type="slidenum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D2F-D690-4E3D-9A6A-4114A583B4FE}" type="datetime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6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1408-5E5F-4EDC-B2F5-497B5EB0CE9E}" type="slidenum">
              <a:rPr b="1" lang="tr-TR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mnm\Pictures\--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411280" y="4941720"/>
            <a:ext cx="50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dinine davet edenle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 ilkeye dikkat etmesi gerek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748-BC61-4862-830D-104B9E00723F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mnm\Pictures\image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6659640" y="112536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عَمِلَ صَالِحً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547640" y="4581360"/>
            <a:ext cx="300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’a çağıra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lih amel işley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5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8979-0B25-4BC9-95C8-C30CC113BFBF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mnm\Pictures\image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0" y="35733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a çağırmanın temeli salih amel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aşında namaz gelmektedi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dosdğru namazdan daha  güz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daha salih amel yokt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öz ancak salih amelle güzel ol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lih amelimiz olmazsa hiç kimsey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laha ve güzelliğie davet edemeyiz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5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F109-78DA-4ED3-8FAA-9F608BCFED6E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mnm\Pictures\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6227640" y="2708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قَالَ اِنَّنٖى مِنَ الْمُسْلِمٖين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0" y="2690640"/>
            <a:ext cx="28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’a çağıra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lih amel işley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6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1399-0D0F-4F2F-B5E9-0CA9D4D7951D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mnm\Pictures\image.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3762360" y="0"/>
            <a:ext cx="53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a güzel sözle ve salih am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vet ederken,Allah’ın kabul ettiğ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sevdiği ümmetin yolunda kalı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dan sapmamak gerek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79280" y="692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6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5983-2F3F-4FE7-9BF4-81C5E21C96D1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mnm\Pictures\image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2268360" y="155736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لَا تَسْتَوِى الْحَسَنَةُ وَلَا السَّيِّئَة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50920" y="400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İyilikle kötülük bir olmaz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7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951-22D0-4ADD-BFBE-605AF281CBC2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mnm\Pictures\image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112920" y="3645000"/>
            <a:ext cx="60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Allah’ın değişmez kanunudu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yilik ve kötülük bir ola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a yumuşak sözle davet etm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ert sözle davet etmek gibi o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üjdelemk, nefret ettırmek gibi o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7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B9B-39A2-4284-BBD2-8AF4A4BB1F43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mnm\Pictures\image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5076720" y="1125360"/>
            <a:ext cx="33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اِدْفَعْ بِالَّتٖى هِىَ اَحْسَن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فَاِذَا الَّذٖى بَيْنَكَ وَبَيْنَهُ عَدَاوَة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كَاَنَّهُ وَلِىٌّ حَمٖيم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3284640"/>
            <a:ext cx="53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Kötülüğü en güzel bir şekilde sa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Bir de bakarsın ki, seninle arası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düşmanlık bulunan kim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nki sıcak bir dost oluvermişt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8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657-F442-4195-8242-45854367B8B2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mnm\Pictures\image009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340000" y="1773360"/>
            <a:ext cx="52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ilahi bir ilkedi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ötülüğü en güzel bir şekil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vmak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üslümana yakışan da bud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üslüman kendi hav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ves veya arzularına göre deği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ilkelerine ve hükümler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öre hareket ede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8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BC18-2E90-4720-A7BA-1B2BB93B21EA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mnm\Pictures\lakemathesonreflectsmounttasmanandmountcooknewzealandc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932360" y="1125360"/>
            <a:ext cx="34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مَا يُلَقّٰیهَا اِلَّا الَّذٖينَ صَبَرُو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مَا يُلَقّٰیهَا اِلَّا ذُو حَظٍّ عَظٖيم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286000" y="269064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Bu güzel davranışa anc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bredenler kavuşturul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Buna ancak hayırdan 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olgunluktan büyük pay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olanlar kavuşturul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907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9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C801-D774-4644-9D21-FB46A0AE0EB9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mnm\Pictures\mukemmel_manzara_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227664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vadettikler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hip olabilmemiz iç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gösterdiği ve razı olduğ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olda sabırla ,sebatla ve azim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evam etmek gerek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ahlakla diğer insanlard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arkımız ol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9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531-3B54-4117-8A74-07C785ADE159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mnm\Pictures\__iftlik_Yolu_Resimler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6156360" y="249228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اِنَّ الَّذٖينَ قَالُوا رَبُّنَا اللّٰه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2421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Şüphesiz, Rabbim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'tır.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A86A-4E69-4068-AF07-011DC09E372B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mnm\Pictures\ph123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3851280" y="1125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وَاِمَّا يَنْزَغَنَّكَ مِنَ الشَّيْطَانِ نَزْغ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فَاسْتَعِذْ بِاللّٰهِ اِنَّهُ هُوَ السَّمٖيعُ الْعَلٖيم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41799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Eğer şeytandan gelen kötü b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düşünce seni dürtecek olurs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hemen Allah’a sığı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Çünkü O, hakkıyla işitendi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hakkıyla bilen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0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C74-F253-4D6A-96BE-68EC1B75C568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mnm\Pictures\savas-pilotlarinin-gozunden-turkiye-381-21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3141720"/>
            <a:ext cx="612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tan bir hayal değildi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tan bir gerçektir, Allah’ın yarattığ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n kötü mahlukt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rrin kaynağı ve fitnenin baş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nsanların düşmanı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şi gücü insanı doğru yoldan saptırmak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kıllı insan şer kaynaklrını öğreni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dan uzak kalmaya çalışan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0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4B0-D456-4A43-A83F-261DAAB3049A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E76A-599F-45D7-8EB1-4542DA24B77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mnm\Pictures\savas-pilotlarinin-gozunden-turkiye-381-1g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1692360" y="26028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0" spc="-1" strike="noStrike">
                <a:solidFill>
                  <a:srgbClr val="00ffff"/>
                </a:solidFill>
                <a:latin typeface="Calibri"/>
                <a:cs typeface="Arial"/>
              </a:rPr>
              <a:t>والحمد لل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0" spc="-1" strike="noStrike">
                <a:solidFill>
                  <a:srgbClr val="00ffff"/>
                </a:solidFill>
                <a:latin typeface="Calibri"/>
                <a:cs typeface="Arial"/>
              </a:rPr>
              <a:t>رب العالمي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mnm\Pictures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2124000" y="170028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 demekle imanın ve tevhidin ilan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ü’mün’in özelliğid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 Efendimiz şöyle demişti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e ki Allah’a inandım, sonra dosdoğru 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vet imanını açık açık ilan et çünk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en dosdoğru yo lüzerindesi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yleyse Rabbını tanı ve O’nu herkese tanı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7D1-DFAE-4B44-8F2A-775F52484D90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mnm\Pictures\1-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6300720" y="112536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ثُمَّ اسْتَقَامُ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356000" y="2852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onra dosdoğru yol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yürüyenlerin üzer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melekler iner.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2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77C8-C69A-4956-ABC1-B63BD9582AD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mnm\Pictures\118168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24000" y="3716280"/>
            <a:ext cx="480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osdoğru olmak, bu da inan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lanına israrla bağlı kal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öylece gerçek Mü’mü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ursun ve Allah’ın raz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duğu kullardan sayılırsı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2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A94-6AF9-4348-A25D-292369494B5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mnm\Pictures\s11w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5651640" y="0"/>
            <a:ext cx="34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تَتَنَزَّلُ عَلَيْهِمُ الْمَلٰئِكَةُ اَلَّا تَخَافُو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وَلَا تَحْزَنُوا وَاَبْشِرُوا بِالْجَنَّةِ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الَّتٖى كُنْتُمْ تُوعَدُون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059280" y="184464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onra dosdoğru yolda yürüyenler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üzerine melekler in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Onlara: Korkmayın, üzülmeyi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ize vâdolunan cennetle sevin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müjdelenin! Der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.Fussilet-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3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563D-516D-4A04-AFCA-A403C3354466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mnm\Pictures\forest-pic-1024x768-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195640" y="1413000"/>
            <a:ext cx="518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vet insan müjdeden daha gü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şey işitmemiş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 müjde senin insanl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ptığın hitabın özü ols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insanlara müjdeley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arak gönderilmiş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zi de öyle olmamızı istemekte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3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9BD0-CEE6-466E-B021-3B5CAC35AEF1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mnm\Pictures\image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4716360" y="33336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مَنْ اَحْسَنُ قَوْلًا مِمَّنْ دَعَا اِلَى اللّٰه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539640" y="981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’a çağıran, salih am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işleyen ve “Kuşkusuz 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müslümanlardanım” diye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daha güzel sözlü kimd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4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F7AA-6F6C-452D-9C30-75936D5B67A2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C:\Users\mnm\Pictures\mountrevelstokenationalparkrevelstokebritishcolumbiajx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3095640" y="1628640"/>
            <a:ext cx="60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Evet tek Allah’a davet etm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u davet ise Allah’a  inanmak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aynaklanmakta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kın insanları Allah’a çağırırken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çağrıya başka bir şey karışması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tan başkasına davet etmeyel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 yapmazsak güzel sözlü olamayı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4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9460-3A42-4B7B-8107-FA3B1DE8A7D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00:08Z</dcterms:created>
  <dc:creator>mnm</dc:creator>
  <dc:description/>
  <dc:language>en-US</dc:language>
  <cp:lastModifiedBy>mnm</cp:lastModifiedBy>
  <dcterms:modified xsi:type="dcterms:W3CDTF">2011-03-22T20:30:06Z</dcterms:modified>
  <cp:revision>86</cp:revision>
  <dc:subject/>
  <dc:title>Slide 1</dc:title>
</cp:coreProperties>
</file>