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D72-D165-4FBB-822B-23469B52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C12-45DB-4037-A46B-0B2F0D99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04D-45E5-47FB-AAA7-30344AD7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982-A250-4680-A418-6AA8DA90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41D-456F-42B6-8C20-5D85B0AD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D4D-10DB-4A11-B039-51AA4DDE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720-F589-4D88-B735-6B3E5CD3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7B9-195F-4004-BB3B-5BF62727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49B-EB55-49BB-93BA-2DAAE249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9EC-8C56-446F-A70F-7909192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D42-7ED3-4332-9017-9EF8131A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E3F-2468-4455-AFA9-B55075FF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AC81-6D28-4F46-9E39-324DDBBB7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C379-23BD-430A-9CF9-19C0F428A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3D66-18CB-40E0-942E-840753FE6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Calibri"/>
              </a:rPr>
              <a:t>Bir gün Ömür Son Bulur.. </a:t>
            </a:r>
            <a:br>
              <a:rPr sz="3600"/>
            </a:br>
            <a:r>
              <a:rPr b="0" lang="tr-TR" sz="3600" spc="-1" strike="noStrike">
                <a:solidFill>
                  <a:srgbClr val="ffff00"/>
                </a:solidFill>
                <a:latin typeface="Calibri"/>
              </a:rPr>
              <a:t>O Gün , Bugün Olabilir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lesin ki ömründen daha değerli bir varlığın yokt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badetle Geçen anlardan 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aha güzel ve değerli anlar yokt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n için bu değerli ömrün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üzel ve değerli ibadetle geçirmeye çalı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pimiz namaza dururken kafamız az veya ç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yahata çıkmaya başlar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slında Namaz  tedebbür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tefekkür ve huşuu ile sağlam olu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F3C4-AAA1-4199-81CE-607F072B7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3-Namaz Özel Bir Ödevdir:</a:t>
            </a:r>
            <a:br>
              <a:rPr sz="2800"/>
            </a:b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Ödevlerin en güzeli makbuldur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Namazdan maksat Allah’a yakın olm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ve kalbi islah etmektir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Bunu için namaz kılınır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Namaz kılmak normal bir göre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eda etmek gibi değildir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Benzemez de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Fatihayi okurken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Allah’la konuşmak gib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Bir haldır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2D06-10F5-47EF-A561-3ED42E9AB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4-Namazda Okunanların Anlamını Düşünmek </a:t>
            </a:r>
            <a:br>
              <a:rPr sz="2800"/>
            </a:b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ve onun Atmosferine Girmek gerek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il söylerken , akıl ve kalp ta onun mealını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lamını düşünerek.. yaşayarak  eşlik etsinler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tsinler ki Allah’a yakın olsun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ff"/>
                </a:solidFill>
                <a:latin typeface="Calibri"/>
              </a:rPr>
              <a:t>Rabbimiz şöyle diy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alibri"/>
                <a:cs typeface="Arial"/>
              </a:rPr>
              <a:t>اَلَّذينَ هُمْ فى صَلَاتِهِمْ خَاشِعُونَ</a:t>
            </a: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Onlar ki, namazlarında derin saygı içindedirler.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MÜ'MİNÛN-2.)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ff"/>
                </a:solidFill>
                <a:latin typeface="Calibri"/>
              </a:rPr>
              <a:t>Namazda sağa sola fazla hareket etmemek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ff"/>
                </a:solidFill>
                <a:latin typeface="Calibri"/>
              </a:rPr>
              <a:t>Secde yerine bakmak huşuu artır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40F7-0810-4187-BFD7-F6BDA4EC7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5- Sema’ya Bakmamak gerek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2852640"/>
            <a:ext cx="8143920" cy="37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"Bazı kimselere ne oluyor k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namazlarında gözlerini semaya dikiyorl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" Sonra sözünü daha da şiddetlendirdi v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"Ya bundan vaz geçerle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ya da gözlerinin nuru alınır da kör olurlar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0484-CE59-44D6-8896-FED81873D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6- Bir Mazereti Olmaksızın Namazda </a:t>
            </a:r>
            <a:br>
              <a:rPr sz="2800"/>
            </a:b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Başını Sağa Sola Çevirmenin Mekruh Oluş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"Namazda sağa sola bakmaktan sakı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Çünkü namazda iken sağa sola bakma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helâk olmaya sebept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Sağa sola dönmekten kurtuluş yoks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bari bu nâfilede olsun, farzda olmasın.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3035-E851-4AF8-8917-FF13254CC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7- Esnemeya Engel Olm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71320" y="1628280"/>
            <a:ext cx="814356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Şüphesiz Allah aksıranı seve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fakat esneyeni sevme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.... Esnemek şeytandand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Sizden birinizin esnemesi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geldiği zama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onu gücü yettiği kadar engellemeye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çalışsı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Çünkü sizden biriniz esnediği zam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şeytan ona güler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rafik 1" descr="100-Ha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EAB6-2273-4A1F-9E2C-503812689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8-Şüphelere Kapılmama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Abdesti sağlam olup olmamasınd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veya Rek’at sayısından şübhey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düşmemeye çalışsın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böyle durumlarda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Şeytandan Allah’a sığını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namazına devam etmesi gerek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Grafik 1" descr="140-Palmy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5E6B-EE62-40B6-9FFB-6AE8F7318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439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9- Gizli Veya Çok Yüksek Sesle Okumama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kurken kendi sesini duyacak kadar yüksek ols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ff"/>
                </a:solidFill>
                <a:latin typeface="Calibri"/>
              </a:rPr>
              <a:t>Rabbimiz şöyle buyurmaktad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ffff"/>
                </a:solidFill>
                <a:latin typeface="Calibri"/>
                <a:cs typeface="Arial"/>
              </a:rPr>
              <a:t>وَلَا تَجْهَرْ بِصَلَاتِكَ وَلَا تُخَافِتْ بِهَا وَابْتَغِ بَيْنَ ذٰلِكَ سَبٖيلًا</a:t>
            </a: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Namazında sesini pek yükseltm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çok da kıs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İkisi ortası bir yol tut.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alibri"/>
              </a:rPr>
              <a:t>(İSRÂ- 110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Grafik 1" descr="102-Ha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8740-2FB9-405B-9DFA-D01131C9F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10- Namazı Güzelce Eda Etm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Tadil erkanı titizlikle yerine getirilmesi gerekir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ni namazın her rüknünün hakkını vermek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Tadil-i Erkan olur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a İKAME  denil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Rabbımız hiç bir ayette namaz kılı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iye buyurmamışt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mazı İKAME ed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iye buyurmuşt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Grafik 1" descr="129-Alepp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ECA9-7A08-4F11-994C-8F3CFF85C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 </a:t>
            </a: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Rasûlullah (Sallallahu Aleyhi ve Selle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Sahabilerine</a:t>
            </a:r>
            <a:r>
              <a:rPr b="0" i="1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namaz kıldırırdı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Sonra onlardan bir grup ile oturd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İçeriye</a:t>
            </a:r>
            <a:r>
              <a:rPr b="0" i="1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bir adam girdi ve namaza durd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Rukû etmeye ve (tavuğun</a:t>
            </a:r>
            <a:r>
              <a:rPr b="0" i="1" lang="tr-TR" sz="28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yem gagalaması gibi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başını eğip kaldırarak secde etmeyebaşladı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Rasûlullah (Sallallahu Aleyhi ve Sellem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735D-9BF5-4873-BE38-2C039DEB2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439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 </a:t>
            </a: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71320" y="1484280"/>
            <a:ext cx="81435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−‘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Bunu görüyor musunuz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Kim bunun üzere ölü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Muhammed’in dininden başka bir şey üzere ölmüştü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Kuzgunun leşi gagalaması gib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namazında başını eğip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hemen kaldır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Rükû edip secdesini (tavuğun ye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gagalaması gibi yapan bir ya da ik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hurma tanesi yiyen aç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insan gibid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Bu onun açlığından neyi giderir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?!’ buyurdu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96C9-AB5D-4BEA-9B26-CDF37170B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fendimiz şöyle buyurmaktad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Kıyamet gününde kulu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hesaba çekileceğ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ilk ameli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onun namazıd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Eğer namazı düzgün olurs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işi iyi gider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ve kazançlı çık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Namazı düzgün olmazs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kaybeder ve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zararlı çık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Grafik 1" descr="072-Maalou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9856-93E6-476D-9A8B-7D4CDD919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 </a:t>
            </a: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"</a:t>
            </a:r>
            <a:r>
              <a:rPr b="0" lang="en-US" sz="3200" spc="-1" strike="noStrike">
                <a:solidFill>
                  <a:srgbClr val="00cc00"/>
                </a:solidFill>
                <a:latin typeface="Calibri"/>
              </a:rPr>
              <a:t>Hırsızlık bakımınd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alibri"/>
              </a:rPr>
              <a:t>insanların en kötüsü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alibri"/>
              </a:rPr>
              <a:t>namazından çalan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alibri"/>
              </a:rPr>
              <a:t>Rükuundan çala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alibri"/>
              </a:rPr>
              <a:t>secdesinden çalar.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rafik 1" descr="073-Kr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7517-DDB5-4A51-A4C2-553EF7783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Namazın nasıl kılınacağını biz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eygamber Efendimiz (sav) öğretiy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"Beni nasıl namaz kılar görüyorsanı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siz de öylece kılın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buyurdu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2817-487A-45F2-9A73-F856EDAFE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Calibri"/>
              </a:rPr>
              <a:t>ALLAH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9640" y="1773360"/>
            <a:ext cx="81439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z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i namaza devam eden  kimse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lerden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ey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oyum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uz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an da böyle kimseler yar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abbimiz! Duamı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zı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kabul eyle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zi, namazını dosdoğru kılanlardan e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30920"/>
          </a:xfrm>
          <a:prstGeom prst="rect">
            <a:avLst/>
          </a:prstGeom>
          <a:ln w="0">
            <a:noFill/>
          </a:ln>
        </p:spPr>
      </p:pic>
      <p:sp>
        <p:nvSpPr>
          <p:cNvPr id="128" name="Subtitle 2"/>
          <p:cNvSpPr/>
          <p:nvPr/>
        </p:nvSpPr>
        <p:spPr>
          <a:xfrm>
            <a:off x="539640" y="981000"/>
            <a:ext cx="8143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Ey Rabbi</a:t>
            </a:r>
            <a:r>
              <a:rPr b="0" lang="tr-TR" sz="2800" spc="-1" strike="noStrike">
                <a:solidFill>
                  <a:srgbClr val="800080"/>
                </a:solidFill>
                <a:latin typeface="Calibri"/>
              </a:rPr>
              <a:t>miz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tr-TR" sz="2800" spc="-1" strike="noStrike">
                <a:solidFill>
                  <a:srgbClr val="800080"/>
                </a:solidFill>
                <a:latin typeface="Calibri"/>
              </a:rPr>
              <a:t>ize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verdiğin nimetlere şükretmey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Ve</a:t>
            </a:r>
            <a:r>
              <a:rPr b="0" lang="tr-TR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razı olacağın salih ameller işlemeye sevk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800080"/>
                </a:solidFill>
                <a:latin typeface="Calibri"/>
              </a:rPr>
              <a:t>Bizi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rahmetinle salih kulların arasına kat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65DE-9FD5-44DA-8BD9-713448C27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fendimiz şöyle buyurmaktad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71320" y="1856880"/>
            <a:ext cx="814356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Şayet farzlarından bir şey noksan çıkars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Azîz ve Celîl olan Rabb’i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Kulumun nâfile namazları var mı, bakınız? 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Farzların eksiği nafilelerle tamamlan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Sonra diğer amellerinden de bu şekilde hesaba çekilir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03D4-181B-4E10-980F-538FD4660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1439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Resûlullah </a:t>
            </a:r>
            <a:r>
              <a:rPr b="0" i="1" lang="tr-TR" sz="2800" spc="-1" strike="noStrike">
                <a:solidFill>
                  <a:srgbClr val="ffff00"/>
                </a:solidFill>
                <a:latin typeface="Calibri"/>
              </a:rPr>
              <a:t>sallallahu aleyhi ve sellem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öyle buyurdu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71320" y="1856880"/>
            <a:ext cx="814356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Kamet bittiğinde Şeytan geli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ve kişi ile nefsi arasına sokulur ve o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Filân şeyi hatırla, filân şeyi hatırla diyerek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namazdan önce aklında olmayan şey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hatırlatır d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neticede insan kaç rek'at namaz kıldığın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bilemez ol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E4BE-40C2-48D1-BC87-5DED60BCA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ffff00"/>
                </a:solidFill>
                <a:latin typeface="Calibri"/>
              </a:rPr>
              <a:t>Namazdaki Sayahat problemini çözmek için tedavi yoluna gitmek ve nefsimizi namaza hazırlamamız  gereki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Ömrün .. Hayatın .. Yaşamanın en tatlı anlar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la giçirilen anlardır 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n içindir ki..    Selam verirken 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la yeni bir görüşme 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eni bir buluş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yeni bir 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eçirme özlemi başlar..Başlamal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mazımız Bizim Rebbani Saatımızdı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ünümüze Yön Veren Rehberimizdir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DA25-A723-441E-9D4C-23C2BA0F9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mazımız nasıl sağlam ol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mazımız Allah’ın huzurunua layı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ale getirmek iç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çten ve sadikane bir yönt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idilmel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BEC7-4ABE-4CC4-8CA9-EC8F8A4F8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c3300"/>
                </a:solidFill>
                <a:latin typeface="Calibri"/>
              </a:rPr>
              <a:t>1-Allah’ın azamatini düşünm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00"/>
                </a:solidFill>
                <a:latin typeface="Calibri"/>
              </a:rPr>
              <a:t>Bilelim ki Ezan Namaza bir çağrıdır..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00"/>
                </a:solidFill>
                <a:latin typeface="Calibri"/>
              </a:rPr>
              <a:t>Allah bizi çağırıyor..Allah bizi huzuruna çağırıyor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00"/>
                </a:solidFill>
                <a:latin typeface="Calibri"/>
              </a:rPr>
              <a:t>Abdest almak , Allah’ın huzuruna gitmek için Yapılan bir hazırlıktır 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Subtitle 2"/>
          <p:cNvSpPr/>
          <p:nvPr/>
        </p:nvSpPr>
        <p:spPr>
          <a:xfrm>
            <a:off x="395280" y="3429000"/>
            <a:ext cx="8143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Calibri"/>
              </a:rPr>
              <a:t>Mescide doğru giderken .. Allah’ın çağrısına icabettir bu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Calibri"/>
              </a:rPr>
              <a:t>İhram tekbiri getirmekle .. Artık Allah’ın huzurundasın sen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Calibri"/>
              </a:rPr>
              <a:t>Namaz hareketleri eda ederken bil ki sayılarını ancak Alla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Calibri"/>
              </a:rPr>
              <a:t>bilen  melekler seninle rukuu eder.. secde eder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Calibri"/>
              </a:rPr>
              <a:t>Bil ki Allah’a en yakın anın secdeye kapandığın andır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3066-B926-4EE2-A69B-FFCA5819A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2- Şeytan’dan Allah’a sığınıp.. </a:t>
            </a:r>
            <a:br>
              <a:rPr sz="2800"/>
            </a:b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İsrarla Huşuu içinde Namazı kılm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71320" y="1856880"/>
            <a:ext cx="814356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ff"/>
                </a:solidFill>
                <a:latin typeface="Calibri"/>
              </a:rPr>
              <a:t>Osman b. Ebî Âs der ki: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Rasullullah’a (s.a)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tan benimle namazım arasına gird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okumamı yanılttı.” dedi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fendimiz dedi k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O “Hanzep” adında bir şeytand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Onu hissettiğin an Allah’a (c.c) sığı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“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Eûzübillahi…”yi oku ve sol tarafına hafifçe tükür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öylediğini yaptım Allah (c.c) onu benden defet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8:33:54Z</dcterms:created>
  <dc:creator>muhsin</dc:creator>
  <dc:description/>
  <dc:language>en-US</dc:language>
  <cp:lastModifiedBy>dr</cp:lastModifiedBy>
  <dcterms:modified xsi:type="dcterms:W3CDTF">2011-04-23T11:52:01Z</dcterms:modified>
  <cp:revision>134</cp:revision>
  <dc:subject/>
  <dc:title>Slide 1</dc:title>
</cp:coreProperties>
</file>